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FFF-1127-4825-9A3D-3F4C0D55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32E-2330-4F6E-A615-F4CE7DB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9C8-A258-4FFA-B05B-A7D907F8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2A3-CD39-4676-A414-2D2C8CB8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293-0099-4927-80DC-8BD71DA8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41C-87CD-4ED3-B396-CF94B7EC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095-68C9-4691-8B1A-02B8E99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C93-3A38-4984-87E0-20163C23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2AA-A6DC-4472-91D9-24848D20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C39-CF08-44B1-AA3C-80061D78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B5A-C57C-47D9-9EBF-9AC1945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D0E-077C-4A05-9B89-E3EB96F9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6EC4-0C6D-4B62-A0FA-65F8CD388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al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the environment and quality of life through bio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Enhancement of the environment will be an integral part of development and use of any biotechnology initiative or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Proactively communicate the opportunities to improve the environment and quality of life through bio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 model to incorporate environmental considerations into biotechnology R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Conference or working group to initiat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CC and PB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Post-November 2000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licit political support within the countries through the united efforts of PBEC, ABAC, and P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through November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EC takes leadership 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Countries identify and publicize the benefits and needs of biotechnology for their growth and development (ready for conference under (A.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paper for APEC ATC on benefits of biotechnology o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May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 Foundation 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:  PBEC Food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CTICS FOR STRATE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volve private sector, responsible environmental groups, and scientific organizations to proactively educate the policymakers, the media, and the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zing positive results i.e., the environmental enhancement, nutrition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or messages to various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foundations in promoting biotechnology for environmental preservation and enhan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:  March 2000 and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05:50:15Z</dcterms:created>
  <dc:creator>DJR</dc:creator>
  <dc:description/>
  <dc:language>en-US</dc:language>
  <cp:lastModifiedBy>Default</cp:lastModifiedBy>
  <dcterms:modified xsi:type="dcterms:W3CDTF">2000-03-17T20:33:18Z</dcterms:modified>
  <cp:revision>2</cp:revision>
  <dc:subject/>
  <dc:title>Environmental Protection</dc:title>
</cp:coreProperties>
</file>