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FB8-46AC-44B5-A5D5-84E276D4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876-3C15-4A0E-8437-95B09A83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743-A1E3-4655-A4B5-5222B050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C1F-6490-40EF-B849-5F069BF2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7830-BEEC-4D4F-A2C1-7427015E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86E8-0C7B-42D6-9850-82902073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9C11-2FAA-492E-BA37-B6FB0B80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1C3D-209A-475C-81CE-92701D89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9A99-77D7-488C-9A42-1227AFAD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0044-B26C-42C7-8FCF-9FCE1893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4309-7621-4DEF-AE68-379482DF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721E-2D87-4862-A35D-3454ED9A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DCCA-8F31-4A59-B603-384680DE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2479-A5C8-41E3-84E7-CBB15FE1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5CF0-6303-42D2-BE78-A47A20C4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D457-5CF2-46F3-90AC-B9301BF9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8CAE-186F-4D4E-82DF-393EFFAE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A79C-E5A3-4F5F-9B9F-5C4B3856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C5B-1CEE-49CB-98AA-BD8C6438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BC1-AA0A-4752-A739-28DE5B23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5872-25E0-4A00-A7A9-7A2E93D3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C86-1412-4C98-91DF-72F1F4AA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70A-19B5-4E04-934A-DBB55C6E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296-B87B-4EA1-8974-474311D8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700E-221F-4A54-A9CC-0931E301ABA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3372-18BD-41B2-A83E-44335311BC89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nsumer Benefits, Perception and Edu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Mis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facilitate consumer confidence and trust in biotechnolog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achieve a state where consumers, and those who make decisions that affect consumption, understand and accept the benefits and buy food produc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Strategies and Tac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1. </a:t>
            </a: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Preparation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semble the facts – science proof, cases (Biosummit –common place for ongoing discussion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semble the questions – dialogue, understand the consumers needs and concer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dentify credible messengers – who people tru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nderstand the constituencies – target group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armonisation of regulations/standards/messages – to meet consumer concerns and increase tru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2. Create a Common Objective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around a high level global goal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e need to feed people – population growth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ve the imperative of the food security proble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ve the compelling case of biotech as an important solu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Quantity – intensification of production, disease/storag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Quality – nutritional enhancement, designer food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Resources – water, land, nutrient inputs, energ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ustainable – future generations, economic, social and environmental sustainabilit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3. Implementation </a:t>
            </a:r>
            <a:br>
              <a:rPr sz="44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to address each consumer’s fea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ational &amp; regional programmes t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timulate communication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Generate trus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rganise/motivate identified messengers – provide with common, effective, understandable message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nsure “real safety” information is communicated within the greater food/nutrition perspectiv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hoice – labelling ques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3. Implementation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(continued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ssembling concrete evidence of benefi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uture economics – food suppl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ther national cases – developing economi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howing benefits compared with traditional method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ood aid programme benefits – Vit A, Fe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cial, ecological and economic impact stud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ice/cost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A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reate the imperative story for food security and increased food produ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lect a credible international body (vehicle) to sponsor the actions eg WHO, WB, ADB etc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dentify credible groups to conduct each component of the “preparation”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t parameters for official development assistance earmarked for food security and increased food production – eg. x% GDP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ime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recommendations and message need to be actively presented and promoted to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rch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PEC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y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g Tech Coop Experts (Govt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BAC (Busines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June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ade Minist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v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port to Lead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In addition to the above, participants should actively promote the recommendations and message within their own countrie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4191120"/>
            <a:ext cx="1905120" cy="1904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1828800"/>
            <a:ext cx="2971800" cy="3048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-990720"/>
            <a:ext cx="4419720" cy="4343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286000"/>
            <a:ext cx="2209680" cy="19810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419720"/>
            <a:ext cx="685800" cy="7617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676160" y="4419720"/>
            <a:ext cx="533160" cy="7617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5181480"/>
            <a:ext cx="838080" cy="2286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343400" y="2819520"/>
            <a:ext cx="1371600" cy="3808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819520" y="3200040"/>
            <a:ext cx="1523880" cy="3049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562360" y="762120"/>
            <a:ext cx="2057400" cy="1143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314840" y="762120"/>
            <a:ext cx="304920" cy="25905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716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952880"/>
            <a:ext cx="990720" cy="2286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219320" y="5181480"/>
            <a:ext cx="457200" cy="8384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840" y="46483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Evaluation &amp;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Exchange System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03840" y="4264200"/>
            <a:ext cx="91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Assemble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Social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Understanding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2520" y="4648320"/>
            <a:ext cx="66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Create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Common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Objective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8400" y="525456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Start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Harmonisation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2120" y="5102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Assemble 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45472"/>
                </a:solidFill>
                <a:latin typeface="Times New Roman"/>
              </a:rPr>
              <a:t>Fact Base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55960" y="491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0960" y="28195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Evaluation &amp;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Exchange Syste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920" y="20574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Education &amp;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Training of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Messeng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36440" y="3084480"/>
            <a:ext cx="101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National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Programm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91480" y="3886200"/>
            <a:ext cx="77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Ongoing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Summit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3240" y="3581280"/>
            <a:ext cx="116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Harmonisa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4196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09680" y="2895120"/>
            <a:ext cx="6934320" cy="3048120"/>
          </a:xfrm>
          <a:prstGeom prst="line">
            <a:avLst/>
          </a:prstGeom>
          <a:ln w="936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90720" y="-304920"/>
            <a:ext cx="4952880" cy="4724640"/>
          </a:xfrm>
          <a:prstGeom prst="line">
            <a:avLst/>
          </a:prstGeom>
          <a:ln w="936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5960" y="533520"/>
            <a:ext cx="163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Evaluation &amp;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Exchange System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-304920"/>
            <a:ext cx="1676520" cy="10670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880" y="3200400"/>
            <a:ext cx="457200" cy="16002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762120"/>
            <a:ext cx="1904760" cy="16761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620120" y="-381240"/>
            <a:ext cx="1523880" cy="1143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7T04:24:08Z</dcterms:created>
  <dc:creator>Default</dc:creator>
  <dc:description/>
  <dc:language>en-US</dc:language>
  <cp:lastModifiedBy>Default</cp:lastModifiedBy>
  <dcterms:modified xsi:type="dcterms:W3CDTF">2000-03-17T20:19:26Z</dcterms:modified>
  <cp:revision>13</cp:revision>
  <dc:subject/>
  <dc:title>Consumer Benefits, Perception and Education</dc:title>
</cp:coreProperties>
</file>