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5593-3339-4986-812F-D5CE78FA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5D25-0B58-4DD7-B887-5D728243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64B8-9305-42FA-8F1D-D51921F4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DFF7-B540-4EA3-A83A-94BD6AF5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4F7A-29FC-4E5C-883A-3D1ED983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18FE-5AF8-4161-90E8-F828AFDC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6924-3CF3-4832-AB4E-A9585942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0752-A877-430D-987A-21B87351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4729-2D01-4573-A79B-85489F5D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3DB3-392B-4EE7-A1DA-0D29F8AB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A5DE-C3A7-4914-8E1B-2F465970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D851-8148-42A5-9F65-6ABBE0EC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9451-3F5C-43E3-90E2-D38DE254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CC54-DECB-4D78-B36B-6A2D5773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C732-C7BC-4FFD-80AE-E153C7F4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1E8E-1E1A-4EE7-917E-CEB1E584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150E-92EB-4D26-B6C7-2CE5E212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3A6D-5AE0-4085-8D56-47C0C325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59B5-92CF-47D2-BEDC-C6E65350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8523-F0C6-4410-9A03-ED32BBD5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41A2-9F82-4644-89A9-9141C389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6A20-26CB-4541-8FE9-4FCA2AA5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6CAC-FD2D-4F9F-BA7D-6598C8E0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0DAE-C205-4C0A-998F-BB6022C8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476E-3078-4B5C-A191-B8C002F554BE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00CD-16D4-4E84-A7BD-4212D1739D5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2C00-BB84-4A83-88C3-8A9B33A7CCCC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84DA-C10C-40AA-8E2A-74FD49A6B70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RODUCER BENEFIT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4E960B3-3A55-4AAA-A0ED-CAC24335FEB7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Suppl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Bridge the “biotechnology gap” by encouraging capacity building in developing countries through multilateral collaboration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FD0E9-9D47-4A9F-9023-CC948A6C66B8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Us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rategy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reate a “technology culture” in the food secto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7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8E70A-0BD0-4C0A-971D-4C4DF55FCB1A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Us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sure that producers have adequate and appropriate information and knowledg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tion:</a:t>
            </a:r>
            <a:r>
              <a:rPr b="1" lang="en-US" sz="3200" spc="-1" strike="noStrike">
                <a:solidFill>
                  <a:srgbClr val="ffffff"/>
                </a:solidFill>
                <a:latin typeface="Impact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dentify best practice models for information dissemination, distance learning, etc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0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02392-51F1-40A7-A08C-A32B81670161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Us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courage countries to comply with their WTO/TRIPS obligation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tion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BEC will support APEC efforts to strengthen Individual Action Plan Monitoring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3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37E60-1DC4-4B22-A493-A05DDC65A281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Us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mote biotechnology as an opportunity for environmentally sustainable production system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tion:</a:t>
            </a:r>
            <a:r>
              <a:rPr b="1" lang="en-US" sz="3200" spc="-1" strike="noStrike">
                <a:solidFill>
                  <a:srgbClr val="ffffff"/>
                </a:solidFill>
                <a:latin typeface="Impact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orm strategic alliances with NGO groups who are open to dialogu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6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E2A26-B6BD-4667-9BE9-1E8EEEA104E3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Us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mote best practic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tion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BEC to poll members for positive examples -- identify, document, share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9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F44D6-D592-4121-A8EA-48ADDB129D51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Regulatory Framework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rategy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chieve transparent, science-based and affordable regulatory frameworks in all jurisdictions and multilaterall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upport global harmonization and mutual recognition agreement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2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0C767-802C-4F96-8F88-702B511F1F8E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arket Acces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rategy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liminate barriers to the free trade of biotechnology products within a science-based SPS framework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mplement the APEC Food System with respect to biotechnolog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efer to Alan’s Group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007B6-6F1C-440D-86F7-9EEF7DEABC44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sumer Acceptanc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rategy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Gain consumer acceptance of biotechnology products,but recognize that identity preservation may be required by consumers for ethical, religious or value-added reason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8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592E70-0EE6-4E42-BDC8-2986A34514A3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sumer Acceptanc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ggressive, fact-based communication campaign that educates / enlists the medi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sure trusted web-based inform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tion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efer to Group on Consumer Percep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EEC91-A890-4DFC-8D5E-4F274D214F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ission/Vision Statemen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ll food producers and processors have the opportunity to secure the benefits of biotechnology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298C0-2A80-44EE-BD18-1347F7551094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sumer Acceptanc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sure producers have full knowledge of consumer trend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tion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nvestigate web based deliver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PEC Study Center Consortium to become a virtual delivery cente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B5908-D60F-4F98-89DA-B2776751F0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ssues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chnology Supply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ocused on Research and Develo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ncluding issues around availability and funding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8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BDCBE-55C4-49EB-90B1-4D96759635A6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ssues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chnology Supply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ocused on Research and Develo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chnology Use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ducer access, ownership, educ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tewardship and best practic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1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02EF3-786B-4864-BCED-99B370E5CA27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ssues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chnology Supply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ocused on Research and Develo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chnology Use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ducer access, ownership, educ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Regulatory Framework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Biosafety, environmental risk manage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B37CE-1669-4B5E-B9F5-FBF197E61A45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ssu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arket Access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ational policies; identity preserv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3CC83-C9BB-4836-A1E4-18A7F2DE2675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ssu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arket Access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ational policies; identity preserv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nsumer Acceptanc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240B86-602A-4714-8011-6FE171D4B504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Suppl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rategy: 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courage Research and Develo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D78D2-4E9F-4DB6-9BCF-2705ACD5A4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echnology Suppl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ctic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tect I.P. rights essential to private sector R&amp;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g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ncourage public investment in biotech, e.g.: public research, education/training and public food research where there is no perceived commercial gain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C87EA-1FBB-4071-8814-5AB2EDC0E8E6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7T08:08:01Z</dcterms:created>
  <dc:creator>Bonnie E. Raquet</dc:creator>
  <dc:description/>
  <dc:language>en-US</dc:language>
  <cp:lastModifiedBy>Tim Jobe</cp:lastModifiedBy>
  <dcterms:modified xsi:type="dcterms:W3CDTF">2000-03-29T20:12:12Z</dcterms:modified>
  <cp:revision>4</cp:revision>
  <dc:subject/>
  <dc:title>PRODUCER BENEFITS</dc:title>
</cp:coreProperties>
</file>