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B7D-2694-4F92-8380-25E38060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810-7F0A-4CE0-B90F-661EB029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99C-D728-4B1F-9D5D-0D0DE9E8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D97-06D4-4FD8-BFAF-2A0493F9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2079-C19A-4647-B1E8-094E8750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B918-4740-4F06-8872-8316F954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6DF7-AACA-4E52-9F2C-CEB83A0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2E82-0D2C-4FC9-9E68-67C5282E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4A79-FB70-4331-80B9-7A7B9420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ED41-88F6-4C59-8F7E-1E181F90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F69C-86A4-49FC-881A-4B98E54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7D6-0826-48EC-97FF-81FBFFB3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10D0-CFBE-4C71-98BE-AC0AC17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F699-4DD2-421C-836C-3D9B5D6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7FE4-92B4-4EF7-877A-3EC6426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F512-74C4-4679-9EBE-48AC477B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6D09-DF8F-4FA0-B26F-3D96813F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821-B361-428E-A5EC-97ED08A1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231-B2EE-4A24-A483-873F344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163-ADAB-46E9-880C-B49DABD8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97E-35CA-4C80-9D6C-32B8852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965-B878-4C61-B15E-DBC0406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F55-84FB-405B-ACE4-34FE4F5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7F2-B999-448E-9855-365E9EE2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00D-01CF-4D07-918C-A2225B80B94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7CA-5D13-4C9B-B4B1-A80D9FDDC1C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sumer Benefits, Perception and Edu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Mis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facilitate consumer confidence and trust in biotechnolog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achieve a state where consumers, and those who make decisions that affect consumption, understand and accept the benefits and buy food produc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trategies and Tac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Preparatio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facts – science proof, cases (Biosummit –common place for ongoing discuss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questions – dialogue, understand the consumers needs and concer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messengers – who peopl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derstand the constituencies – target group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armonisation of regulations/standards/messages – to meet consumer concerns and increas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2. Create a Common Objective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round a high level global go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need to feed people – population grow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imperative of the food security probl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compelling case of biotech as an important solu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ntity – intensification of production, disease/storag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lity – nutritional enhancement, designer food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sources – water, land, nutrient inputs, energ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stainable – future generations, economic, social and environmental sustainab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o address each consumer’s fe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ational &amp; regional programmes 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imulate communicatio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nerate tru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ganise/motivate identified messengers – provide with common, effective, understandable messag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sure “real safety” information is communicated within the greater food/nutrition perspect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oice – labelling ques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ssembling concrete evidence of benef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uture economics – food supp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 national cases – developing econom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howing benefits compared with traditional metho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od aid programme benefits – Vit A, Fe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cial, ecological and economic impact stud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ice/cos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eate the imperative story for food security and increased food produ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lect a credible international body (vehicle) to sponsor the actions eg WHO, WB, ADB et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groups to conduct each component of the “preparatio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 parameters for official development assistance earmarked for food security and increased food production – eg. x% GD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commendations and message need to be actively presented and promoted t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rch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E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y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g Tech Coop Experts (Gov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BAC (Busines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une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de Minis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v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port to Lea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In addition to the above, participants should actively promote the recommendations and message within their own countr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1911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828800"/>
            <a:ext cx="2971800" cy="3048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-990720"/>
            <a:ext cx="4419720" cy="4343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86000"/>
            <a:ext cx="2209680" cy="1981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419720"/>
            <a:ext cx="68580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76160" y="4419720"/>
            <a:ext cx="53316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5181480"/>
            <a:ext cx="83808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2819520"/>
            <a:ext cx="13716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3200040"/>
            <a:ext cx="152388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62360" y="762120"/>
            <a:ext cx="205740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14840" y="762120"/>
            <a:ext cx="304920" cy="2590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71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952880"/>
            <a:ext cx="99072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9320" y="5181480"/>
            <a:ext cx="457200" cy="838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840" y="46483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3840" y="4264200"/>
            <a:ext cx="91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ocial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Understanding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2520" y="4648320"/>
            <a:ext cx="66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reat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ommon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Objectiv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8400" y="525456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tart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120" y="5102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Fact Bas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559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0960" y="28195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920" y="20574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ducation &amp;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Training of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Messeng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440" y="308448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National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Programm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388620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Ongoing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Summi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3240" y="3581280"/>
            <a:ext cx="11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2895120"/>
            <a:ext cx="6934320" cy="304812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-304920"/>
            <a:ext cx="4952880" cy="472464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5960" y="533520"/>
            <a:ext cx="163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-304920"/>
            <a:ext cx="1676520" cy="1067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3200400"/>
            <a:ext cx="457200" cy="1600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762120"/>
            <a:ext cx="1904760" cy="16761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20120" y="-381240"/>
            <a:ext cx="152388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4:24:08Z</dcterms:created>
  <dc:creator>Default</dc:creator>
  <dc:description/>
  <dc:language>en-US</dc:language>
  <cp:lastModifiedBy>Default</cp:lastModifiedBy>
  <dcterms:modified xsi:type="dcterms:W3CDTF">2000-03-17T20:19:26Z</dcterms:modified>
  <cp:revision>13</cp:revision>
  <dc:subject/>
  <dc:title>Consumer Benefits, Perception and Education</dc:title>
</cp:coreProperties>
</file>