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76F-5D85-4C3E-9119-9F62B5F5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BD6-5F4E-412A-BDA9-E90D843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5C4-AAF5-4E27-AA2E-24A9045E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F5C-22BA-4FD9-ABFF-A138D546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3FC-86A9-42E1-BD0E-60F5A43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729-4F20-459A-86EB-CD821188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4DB-689B-4969-BF4C-FAB24388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4DC-5330-4ED5-8381-4CDB69D2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151-7EFC-4A99-9947-D02E524B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083-B161-4CC3-A49E-F17D66BD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7EB-C894-4EA0-BF65-3ABF0EF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4C2-D018-48EE-9B21-7226795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CAF-A124-43BF-BA27-A37F1B57A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the environment and quality of life through 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Enhancement of the environment will be an integral part of development and use of any biotechnology initiative or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Proactively communicate the opportunities to improve the environment and quality of life through bio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model to incorporate environmental considerations into biotechnology R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Conference or working group to initia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CC and PB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Post-November 2000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licit political support within the countries through the united efforts of PBEC, ABAC, and P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through November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EC takes leadership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Countries identify and publicize the benefits and needs of biotechnology for their growth and development (ready for conference under (A.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paper for APEC ATC on benefits of biotechnology o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May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Foundation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  PBEC Food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volve private sector, responsible environmental groups, and scientific organizations to proactively educate the policymakers, the media, and the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zing positive results i.e., the environmental enhancement, nutrition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 messages to various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foundations in promoting biotechnology for environmental preservation and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March 2000 and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05:50:15Z</dcterms:created>
  <dc:creator>DJR</dc:creator>
  <dc:description/>
  <dc:language>en-US</dc:language>
  <cp:lastModifiedBy>Default</cp:lastModifiedBy>
  <dcterms:modified xsi:type="dcterms:W3CDTF">2000-03-17T20:33:18Z</dcterms:modified>
  <cp:revision>2</cp:revision>
  <dc:subject/>
  <dc:title>Environmental Protection</dc:title>
</cp:coreProperties>
</file>