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9C5-B61D-4688-AD7F-0CC58DF8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09C-6DB0-43AD-99F1-4B2EC651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A46-DB00-4EDF-9895-7E5BE59B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D36-B336-4228-A522-21096277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2856-E82E-42A6-9BB3-F32090E2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FF66-F852-4A7B-9F7A-065B39FE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12D6-D2B8-499B-BF60-ECA94EB5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4735-B408-4372-B207-5D2D97D3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9315-F62A-4BF6-A026-E8A45B16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3F1E-B972-4683-A692-AA092DFE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BFDF-705D-4720-9228-9C3F6851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763-25C1-4EF8-BAA3-C7703C19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C9DF-39B9-4543-8B42-CF7C1605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DDE3-44FB-4D61-9716-86F5D1D1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29A3-200D-4D79-AD19-ABB743A8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9973-7CD7-47EE-AE8E-8F947514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0FA2-22DC-4157-B496-2E2AE49F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1C9-B624-4976-9E22-72433EA1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193-613E-4E12-93A9-0CAC8844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903-8A0C-4AC2-A985-ED534C70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F8C-38A8-4046-82B4-472DD4AB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21E-C122-4D2A-B181-7C55732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C79-CFA4-4C7C-BCF5-B16391F1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8C0-2D9F-4E5F-9FCC-2DA2DE5A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C456-7DBC-42E7-8467-FA88366CE9CB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7312-EDD1-4A74-895C-08564EE3F23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D81A-5356-46B3-9F33-6C20C05F41DB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52D8-ED8E-467E-A99F-0CBD2B107B1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ODUCER BENEFI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8E98AB1-FA6C-4C89-8621-DE9A19F42E60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ridge the “biotechnology gap” by encouraging capacity building in developing countries through multilateral collaboratio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8F5AB-3D3E-42D6-B1E9-8BAFD5C1762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eate a “technology culture” in the food sect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DBE97-1929-44A0-8C74-8370265C027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that producers have adequate and appropriate information and knowled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y best practice models for information dissemination, distance learning, etc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29BEC-5250-4329-AA8D-501144ABC256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countries to comply with their WTO/TRIPS obligation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BEC will support APEC efforts to strengthen Individual Action Plan Monitor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EC3EF-476D-42C6-B087-0801D1BA42CC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mote biotechnology as an opportunity for environmentally sustainable production system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rm strategic alliances with NGO groups who are open to dialogu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EDF0C-4B30-4241-85FA-E9F3E6B99B97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mote best pract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BEC to poll members for positive examples -- identify, document, share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15795-7992-4BC4-8D0A-7C82031418ED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egulatory Framewor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hieve transparent, science-based and affordable regulatory frameworks in all jurisdictions and multilaterall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port global harmonization and mutual recognition agreemen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4BB51-C46D-42B1-B4F3-13497DDEE07B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 Acces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iminate barriers to the free trade of biotechnology products within a science-based SPS framework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mplement the APEC Food System with respect to biotechnolog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 to Alan’s Group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7DC0E-1B53-4897-B00F-1F2BADFDF065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ain consumer acceptance of biotechnology products,but recognize that identity preservation may be required by consumers for ethical, religious or value-added reason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391BE-4E75-493F-ACFF-ECC918A87919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ggressive, fact-based communication campaign that educates / enlists the med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trusted web-based inform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 to Group on Consumer Percep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07EE7-BBE7-46FF-820F-A37D25A837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ission/Vision State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ll food producers and processors have the opportunity to secure the benefits of biotechnology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997E1-2131-4227-969D-A94B7C0EA1C4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producers have full knowledge of consumer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vestigate web based deliver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PEC Study Center Consortium to become a virtual delivery cent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BBEE5-BACC-4B74-B980-674CECB56C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cluding issues around availability and fund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A09F6-8771-41FC-8086-AD3CB64E5AFE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Use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ducer access, ownership,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ewardship and best pract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D8842-0CC9-444C-B038-D4B003EDB5F9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Use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ducer access, ownership,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gulatory Framework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iosafety, environmental risk manag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1F051-EA66-489A-9D48-5FC2C96685A2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ket Acces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policies; identity preserv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3827C-98DF-48BB-991F-66770DA668B4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ket Acces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policies; identity preserv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sumer Acceptan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92510-FFE0-497A-B245-E99BB8F4C15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6B5B2-E862-4D3A-9D1F-21C561CF38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ect I.P. rights essential to private sector R&amp;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public investment in biotech, e.g.: public research, education/training and public food research where there is no perceived commercial gai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B6024-94EE-4528-9DFC-1EFA157A42F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8:08:01Z</dcterms:created>
  <dc:creator>Bonnie E. Raquet</dc:creator>
  <dc:description/>
  <dc:language>en-US</dc:language>
  <cp:lastModifiedBy>Tim Jobe</cp:lastModifiedBy>
  <dcterms:modified xsi:type="dcterms:W3CDTF">2000-03-29T20:12:12Z</dcterms:modified>
  <cp:revision>4</cp:revision>
  <dc:subject/>
  <dc:title>PRODUCER BENEFITS</dc:title>
</cp:coreProperties>
</file>