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EF6-56D0-4757-9A3E-28F485BB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6C4-D99B-45DC-8B47-FACFB03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F59-3305-47EE-A310-B049E2DD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DA2-EF79-439B-94CB-F4036A6F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B7D8-5CE1-4D5E-B4E2-C5CAEC5F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7646-AEA1-4688-BB9B-95906C80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15DF-401A-4E07-9143-9DF73594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F8EE-E0F0-4694-9E57-AA0240CE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A5F9-6E89-46F8-B08C-2AB3BBF5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9BAA-5318-4F62-8171-00763D72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7922-B219-4612-B6EE-7E5583F9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743-0968-46CB-8808-6A5DB95D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7ED3-9AD0-49B3-BF47-1F7BDD4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CF0-059B-4C3B-B5B2-ED0503C9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9830-BBD7-4FBB-A06A-7BC61503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646F-A5F8-447F-A198-D45E7114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16E6-E133-40CC-95F8-6BE25676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8B9-4EB7-46A0-8E58-F7496786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386-75BD-4FBF-8AA6-74F6B61D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9BB-595E-49A0-A965-04D3AD3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082-F148-478F-8AC4-3C2B9AF8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647-2D3E-48BA-8072-7CD4A460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DC7-3EE4-456E-95A8-3AC62E4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488-12CE-456F-A286-6937722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5333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Washington Stat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3200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67D0-6DAB-480C-86B9-49258A228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7C82-270D-4BBD-A2EA-70450DCFC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% of re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lk, eggs, peanuts, soybeans, tree nuts, fish, crustacea, wh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0 foods documented to cause re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9143" descr=""/>
          <p:cNvPicPr/>
          <p:nvPr/>
        </p:nvPicPr>
        <p:blipFill>
          <a:blip r:embed="rId2"/>
          <a:stretch/>
        </p:blipFill>
        <p:spPr>
          <a:xfrm>
            <a:off x="4788000" y="1657440"/>
            <a:ext cx="374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proteins from known allergenic requires high standard of proo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amino acid sequ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azil nu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into soybea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d and discontinu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oving Nutr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d amino acids, vitamins, antioxidants, flavonoids, fiber, better quality o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nutritionally incomplete f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A and iron in r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9097" descr=""/>
          <p:cNvPicPr/>
          <p:nvPr/>
        </p:nvPicPr>
        <p:blipFill>
          <a:blip r:embed="rId2"/>
          <a:stretch/>
        </p:blipFill>
        <p:spPr>
          <a:xfrm>
            <a:off x="5046840" y="1657440"/>
            <a:ext cx="3306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Promo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cer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oxid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cine or vaccine carrying pl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ty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traditional or underutilized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er foods to reduce disease or can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12233" descr=""/>
          <p:cNvPicPr/>
          <p:nvPr/>
        </p:nvPicPr>
        <p:blipFill>
          <a:blip r:embed="rId2"/>
          <a:stretch/>
        </p:blipFill>
        <p:spPr>
          <a:xfrm>
            <a:off x="4978440" y="1657440"/>
            <a:ext cx="351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generation 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producer c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outp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gener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 consumers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, disease/cancer figh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iver medicine or vacc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back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run health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confid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52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 75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st functions as a substitute for knowledge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Tra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S, TBT, Codex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s &amp; guidelines for food quality and 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public health and environment from pests, diseases, contamin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39132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07656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being labeled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al aspects, the process or the assurance that the product meets quality standard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m is the labeling fo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or, marketer,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 used to determine cont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ification, verification and preser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shold concentra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or negative labe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gregation from harvest-to-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ntary or mandator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tional harmo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e costs of 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, processor, marketer, retail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and costs for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is about human heal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allows targeting specif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, allergencity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research needed to understanding risks, benefits and costs of biotechnology and food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effects on safe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safety &amp; tra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genetic mate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onom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-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ning, genomics, gene splicing, marker assisted 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335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g Produ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ist insect pests and vir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t corn, potatoes, and cot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cillus thuringiens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toxic to insect p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prot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atoes, squash, papay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lerate herbic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ndup Ready” soyb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 vs potential ris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na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d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conc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w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advertent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terf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39314" descr=""/>
          <p:cNvPicPr/>
          <p:nvPr/>
        </p:nvPicPr>
        <p:blipFill>
          <a:blip r:embed="rId2"/>
          <a:stretch/>
        </p:blipFill>
        <p:spPr>
          <a:xfrm>
            <a:off x="4659480" y="1676520"/>
            <a:ext cx="393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 term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 communit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3 lett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4 NAS morator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H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DA, FDA, E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 Regulatory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ally-based, case-by-c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hazard ID and risk asses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es end product rather tha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s on existing instit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d regulation after demonstrating low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nd Food Safe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rgeni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ng nutr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pro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19330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124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xi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029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ccoli, legumes, squash, cucumbers, cel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sava toxin leve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cause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bree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analytical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analysis standards for biotec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2010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70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4:48:31Z</dcterms:created>
  <dc:creator>wahl</dc:creator>
  <dc:description/>
  <dc:language>en-US</dc:language>
  <cp:lastModifiedBy>wahl</cp:lastModifiedBy>
  <cp:lastPrinted>2000-03-14T16:34:13Z</cp:lastPrinted>
  <dcterms:modified xsi:type="dcterms:W3CDTF">2000-03-14T23:02:39Z</dcterms:modified>
  <cp:revision>29</cp:revision>
  <dc:subject/>
  <dc:title>Food Safety and Biotechnology</dc:title>
</cp:coreProperties>
</file>